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364-28C8-48A4-9025-BC85A212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920-DAD4-4F0A-BD10-C2F9043D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6A7-20D9-4966-8974-D51052BE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29E-3799-4B7D-A1EE-1F47EF2E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CE1-BCF0-4B6F-B4FE-3FE4145C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E27-2AF4-43A7-9839-8E60EA02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799-DF8E-4710-BD46-A628087B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636-1D22-4C17-8BFF-2C60B0DC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5D6-2353-4132-9EC8-CEEF31A0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9B3-1455-49B2-8D64-59F239D9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D81-DC36-4C88-8C9C-C4716B38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23A-8B8D-445B-BB6B-C91CF869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9C09-BC75-4545-BEB1-197538D4C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ap10"/>
          <p:cNvPicPr/>
          <p:nvPr/>
        </p:nvPicPr>
        <p:blipFill>
          <a:blip r:embed="rId1"/>
          <a:stretch/>
        </p:blipFill>
        <p:spPr>
          <a:xfrm>
            <a:off x="457200" y="2666880"/>
            <a:ext cx="7910640" cy="4191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0" y="685800"/>
            <a:ext cx="9144000" cy="203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2-15 &amp; 16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a country on the Atlantic ocean that has the natural resource –i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landlocked countries that have copper and cobalt as natur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Name a country that has diamonds AND uran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7924680" y="1066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ng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80880" y="1981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Zambia and Zimbabw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715000" y="2286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. Africa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0" y="0"/>
            <a:ext cx="5257800" cy="707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genda Feb. 15 &amp; 16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Afria Map Test on Fri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P423-CHART"/>
          <p:cNvPicPr/>
          <p:nvPr/>
        </p:nvPicPr>
        <p:blipFill>
          <a:blip r:embed="rId1"/>
          <a:stretch/>
        </p:blipFill>
        <p:spPr>
          <a:xfrm>
            <a:off x="5257800" y="4054320"/>
            <a:ext cx="4038480" cy="280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map30iaf"/>
          <p:cNvPicPr/>
          <p:nvPr/>
        </p:nvPicPr>
        <p:blipFill>
          <a:blip r:embed="rId2"/>
          <a:stretch/>
        </p:blipFill>
        <p:spPr>
          <a:xfrm>
            <a:off x="0" y="1969920"/>
            <a:ext cx="5257800" cy="4888080"/>
          </a:xfrm>
          <a:prstGeom prst="rect">
            <a:avLst/>
          </a:prstGeom>
          <a:ln w="0">
            <a:noFill/>
          </a:ln>
        </p:spPr>
      </p:pic>
      <p:sp>
        <p:nvSpPr>
          <p:cNvPr id="49" name="WordArt 9"/>
          <p:cNvSpPr txBox="1"/>
          <p:nvPr/>
        </p:nvSpPr>
        <p:spPr>
          <a:xfrm>
            <a:off x="2209680" y="533520"/>
            <a:ext cx="5181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Imperial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pic>
        <p:nvPicPr>
          <p:cNvPr id="50" name="Picture 11" descr="Imperialism in Africa"/>
          <p:cNvPicPr/>
          <p:nvPr/>
        </p:nvPicPr>
        <p:blipFill>
          <a:blip r:embed="rId3"/>
          <a:stretch/>
        </p:blipFill>
        <p:spPr>
          <a:xfrm>
            <a:off x="5638680" y="2089080"/>
            <a:ext cx="29718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7:16:30Z</dcterms:created>
  <dc:creator>poweruser</dc:creator>
  <dc:description/>
  <dc:language>en-US</dc:language>
  <cp:lastModifiedBy>poweruser</cp:lastModifiedBy>
  <dcterms:modified xsi:type="dcterms:W3CDTF">2012-02-20T17:48:38Z</dcterms:modified>
  <cp:revision>7</cp:revision>
  <dc:subject/>
  <dc:title>Slide 1</dc:title>
</cp:coreProperties>
</file>